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C0C-13B8-4D49-A138-67857BFD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F51-3D77-475C-BCB3-EF2E60DA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820-5E0B-4FF9-8E96-F723C4C7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C1E-440D-4057-BD93-B8BB7848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261-8283-4745-A07E-509A3C71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737-78F1-4A8B-B921-8FAB7DF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D06-5EFC-43E6-8145-2729C1D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407-38B3-4B15-9237-BED25509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A35-5C74-45C4-9821-520D0B3A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D98-1DFF-4165-BE12-AF8165B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69D-7B17-4524-9EA3-86762C1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969-9F59-40DF-9EBB-BDB5405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1266-47F7-41E4-9326-34D952014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en-us/dnsetup/html/sidebyside.asp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Das Ende der DLL-Hölle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fried K.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08720" y="5157720"/>
            <a:ext cx="9972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9999"/>
                </a:solidFill>
                <a:latin typeface="Arial"/>
              </a:rPr>
              <a:t>Laden einer bestimmten Assemblyversion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74920" y="2060640"/>
            <a:ext cx="6049800" cy="3600360"/>
            <a:chOff x="1474920" y="2060640"/>
            <a:chExt cx="6049800" cy="3600360"/>
          </a:xfrm>
        </p:grpSpPr>
        <p:grpSp>
          <p:nvGrpSpPr>
            <p:cNvPr id="62" name=""/>
            <p:cNvGrpSpPr/>
            <p:nvPr/>
          </p:nvGrpSpPr>
          <p:grpSpPr>
            <a:xfrm>
              <a:off x="1474920" y="2060640"/>
              <a:ext cx="2016000" cy="1944360"/>
              <a:chOff x="1474920" y="2060640"/>
              <a:chExt cx="2016000" cy="1944360"/>
            </a:xfrm>
          </p:grpSpPr>
          <p:sp>
            <p:nvSpPr>
              <p:cNvPr id="63" name=""/>
              <p:cNvSpPr/>
              <p:nvPr/>
            </p:nvSpPr>
            <p:spPr>
              <a:xfrm>
                <a:off x="1474920" y="2060640"/>
                <a:ext cx="2016000" cy="1944360"/>
              </a:xfrm>
              <a:prstGeom prst="rect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1618920" y="2205000"/>
                <a:ext cx="1728720" cy="1655640"/>
                <a:chOff x="1618920" y="2205000"/>
                <a:chExt cx="1728720" cy="16556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618920" y="2205000"/>
                  <a:ext cx="1728720" cy="93672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wendu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618920" y="3284280"/>
                  <a:ext cx="1728720" cy="57636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nifes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" name=""/>
            <p:cNvGrpSpPr/>
            <p:nvPr/>
          </p:nvGrpSpPr>
          <p:grpSpPr>
            <a:xfrm>
              <a:off x="3780000" y="5084640"/>
              <a:ext cx="3744720" cy="576360"/>
              <a:chOff x="3780000" y="5084640"/>
              <a:chExt cx="3744720" cy="576360"/>
            </a:xfrm>
          </p:grpSpPr>
          <p:sp>
            <p:nvSpPr>
              <p:cNvPr id="68" name=""/>
              <p:cNvSpPr/>
              <p:nvPr/>
            </p:nvSpPr>
            <p:spPr>
              <a:xfrm>
                <a:off x="3780000" y="5084640"/>
                <a:ext cx="1728720" cy="57636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Ctl32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96000" y="5084640"/>
                <a:ext cx="1728720" cy="57636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Ctl32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0" name=""/>
            <p:cNvCxnSpPr>
              <a:endCxn id="69" idx="0"/>
            </p:cNvCxnSpPr>
            <p:nvPr/>
          </p:nvCxnSpPr>
          <p:spPr>
            <a:xfrm flipH="1" rot="16200000">
              <a:off x="5730120" y="4141800"/>
              <a:ext cx="1064160" cy="797400"/>
            </a:xfrm>
            <a:prstGeom prst="bentConnector3">
              <a:avLst>
                <a:gd name="adj1" fmla="val 50592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71" name=""/>
            <p:cNvSpPr/>
            <p:nvPr/>
          </p:nvSpPr>
          <p:spPr>
            <a:xfrm flipH="1">
              <a:off x="3348000" y="3573360"/>
              <a:ext cx="14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"/>
            <p:cNvCxnSpPr>
              <a:endCxn id="68" idx="0"/>
            </p:cNvCxnSpPr>
            <p:nvPr/>
          </p:nvCxnSpPr>
          <p:spPr>
            <a:xfrm rot="5400000">
              <a:off x="4506480" y="4143240"/>
              <a:ext cx="1067400" cy="791280"/>
            </a:xfrm>
            <a:prstGeom prst="bentConnector3">
              <a:avLst>
                <a:gd name="adj1" fmla="val 50573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73" name=""/>
            <p:cNvSpPr/>
            <p:nvPr/>
          </p:nvSpPr>
          <p:spPr>
            <a:xfrm>
              <a:off x="3348000" y="2852640"/>
              <a:ext cx="12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643280" y="2421000"/>
              <a:ext cx="2016360" cy="1584360"/>
              <a:chOff x="4643280" y="2421000"/>
              <a:chExt cx="2016360" cy="1584360"/>
            </a:xfrm>
          </p:grpSpPr>
          <p:sp>
            <p:nvSpPr>
              <p:cNvPr id="75" name=""/>
              <p:cNvSpPr/>
              <p:nvPr/>
            </p:nvSpPr>
            <p:spPr>
              <a:xfrm>
                <a:off x="4643280" y="2421000"/>
                <a:ext cx="2016360" cy="158436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88000" y="3286080"/>
                <a:ext cx="1728720" cy="576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Arial"/>
                  </a:rPr>
                  <a:t>SxS 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788000" y="2565360"/>
                <a:ext cx="1728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Arial"/>
                  </a:rPr>
                  <a:t>DLL-La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9999"/>
                </a:solidFill>
                <a:latin typeface="Arial"/>
              </a:rPr>
              <a:t>Beispiel: Erstellen einer parallelen Assembly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plementierung von inkompatiblen Versionen 1.0 und 2.0 einer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stallation von Version 1.0 in „%WINDIR%\system32“ oder Anwendungs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rallele Installation von Version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stellen von Manifest und Sicherheits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stellen eines Mergemoduls und MSI-Pakets mit W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llation der Assembly im Side-by-Side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estlegen der Abhängigkeit einer Anwendung zu Version 2.0 in deren Assembly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Activation Context API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ndows XP/Server 2003 (in „kernel32.dll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mleitung des DLL-Zugriffs in Teilen des Codes auf eine bestimmte parallel installiert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ontextinformationen über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CreateActCtx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aus Manifest ge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ktivieren und Deaktivieren des Aktivierungskontexts: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ActivateActCtx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DeactivateActC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truktur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ACTC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pät gebundene Plattformaufrufe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den einer DLL: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Load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mitteln von Funktionszeigern auf exportierte Funktion: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GetProc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unktionszeiger </a:t>
            </a:r>
            <a:r>
              <a:rPr b="0" lang="de-A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legat: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Marshal.GetDelegateForFunctionPoint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(.NET 2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unktionsaufruf über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Delegate.Dynamic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kapselt in Klasse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Native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ternat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L-Generierung mit </a:t>
            </a:r>
            <a:r>
              <a:rPr b="0" lang="de-AT" sz="2000" spc="-1" strike="noStrike">
                <a:solidFill>
                  <a:srgbClr val="000000"/>
                </a:solidFill>
                <a:latin typeface="Lucida Console"/>
              </a:rPr>
              <a:t>Reflection.E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biblioth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Ermitteln von DLL-Versionen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unktion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DllGetVersio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von einigen Windows-DLLs export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comctl32.dll“, „shell32.dll“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pätgebundener Plattformaufruf, um verschleiertes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LoadLibrary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einer bestimmten Version von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Declar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zu um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mitteln geladener Module: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System.Diagnostics.Process.GetCurrentProcess().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L Help database, http://support.microsoft.com/dllhel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Beispiel: Aktivierungskontexte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hell Common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tandardversion unter Windows XP ist 5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isual Styles in Version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apseln des Activation Context APIs über PInvoke in Visual Basic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stellen eines Aktivierungskontexts für Version 6.0 und Nutzung von deren Fenster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satzgebiete: Add-Ins, EXE- und DLL-Da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eiterführende Literatur (1/2)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Build and Service Isolated Applications and Side-by-Side Assemblies for Windows XP, http://msdn.microsoft.com/library/en-us/dnwxp/html/sidexsidewinxp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Side-by-Side Component Sharing in Applications (Expanded)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sdn.microsoft.com/library/en-us/dnsetup/html/sidebyside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DLL Hell, http://msdn.microsoft.com/library/en-us/dnsetup/html/dlldanger1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eiterführende Literatur (2/2)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Installer – Assemblies, http://msdn.microsoft.com/library/en-us/msi/setup/assemblies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Installer – Installing Win32 Assemblies for Side-by-Side Sharing on Windows XP, http://msdn.microsoft.com/library/en-us/msi/setup/installing_win32_assemblies_for_side_by_side_sharing_on_windows_xp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Installer XML (WiX) toolse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http://wix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X Tutorial, http://www.tramontana.co.hu/wi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Vielen Dank für Ihre Aufmerksamkeit!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DLL-Hö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spiel: Knacken durch DLL-Austau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Lösung von Windows 2000/98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Lösung von Windows XP/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ssemblies und Manif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arallele Assemb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den einer bestimmten Assembly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spiel: Erstellen einer parallele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ctivation Contex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pät gebundene Plattformaufr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mitteln von DLL-Ver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spiel: Aktivierungsk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Die DLL-Hölle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sionierungskonflikte bei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aden der DLL über Dateinamen, z.B. 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LoadLibrary(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Arial"/>
              </a:rPr>
              <a:t>"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comctl32.dll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Arial"/>
              </a:rPr>
              <a:t>"</a:t>
            </a:r>
            <a:r>
              <a:rPr b="0" lang="de-AT" sz="28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kompatible Versionen einer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sehentlicher Austausch von gemeinsamen DLLs mit anderer Version durch Anwendungs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bsichtlicher Austausch zum Knacken einer An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hlver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9999"/>
                </a:solidFill>
                <a:latin typeface="Arial"/>
              </a:rPr>
              <a:t>Beispiel: Knacken durch DLL-Austausch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Lizenzierte Anwe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üfen des Lizenzierungsschlüssel beim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üfung in Standard-DLL implement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Überlisten der Lizenzprü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stellen einer neuen DLL mit gleicher Funktionsexportta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üfungsfunktion gibt immer Erfolg zurü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stausch der Original-DLL mit der neuen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ie Lösung v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indows 2000/98 SE (1/2)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Windows File Protection (WF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cherungskopien der DLLs in „%WINDIR%\system32\dllcach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terbindet unautorisiertes Aktualisieren und Löschen von Systemda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ie Lösung v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indows 2000/98 SE (2/2)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ivate D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ide-by-Sid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ür Neuentwicklungen (Anpassung erforder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LLs in passender Version im Anwendung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aden der DLL in passende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LL/COM Re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ür bestehende Lösungen (keine Anpassung erforder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LLs in passender Version im Anwendung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ere Datei „Anwendung.exe.local“ stellt Anwendungsverzeichnis an Beginn der Suchreihenfo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ie Lösung v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indows XP/Server 2003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iel: Isolierte Anwendungen (Isolated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öglichkei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ivate Assemblies (Side-by-Side Components, DLL/COM Re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arallele Assemblies (Parallel Side-by-Side Assemb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versifik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n32: Side-by-Side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NET: Global Assembly Cache (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Assemblies und Manifeste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ssembly: DLL oder mehrere D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anif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deutige Identifikation einer Anwendung oder einer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schreibung von Abhängigkeiten zu bestimmten Versionen anderer Assemblies und deren Teilen (Fensterklassen, COM-Schnittstelle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XML-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eparate Dateien oder als Win32-Ressource des Typs </a:t>
            </a:r>
            <a:r>
              <a:rPr b="0" lang="de-AT" sz="2400" spc="-1" strike="noStrike">
                <a:solidFill>
                  <a:srgbClr val="000000"/>
                </a:solidFill>
                <a:latin typeface="Lucida Console"/>
              </a:rPr>
              <a:t>RT_MANIFES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n EXE/DLL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9999"/>
                </a:solidFill>
                <a:latin typeface="Arial"/>
              </a:rPr>
              <a:t>Parallele Assemblies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bgelegt im Side-by-Side Cache („%WINDIR%\WinSxS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sioniert mit Manifest und Sicherheitsk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stallation über MSI-Paket bzw. Merge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nHTTP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hell Common Controls 6.0 („comctl32.dl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DI+ 1.0 („GdiPlus.dl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isual C++-Laufzeitbibliotheken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11:35:18Z</dcterms:created>
  <dc:creator>Herfried K. Wagner</dc:creator>
  <dc:description/>
  <dc:language>en-US</dc:language>
  <cp:lastModifiedBy>Herfried K. Wagner</cp:lastModifiedBy>
  <dcterms:modified xsi:type="dcterms:W3CDTF">2006-08-22T13:20:54Z</dcterms:modified>
  <cp:revision>169</cp:revision>
  <dc:subject/>
  <dc:title>Das Ende der DLL-Hölle</dc:title>
</cp:coreProperties>
</file>